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98B-6CE6-4DE7-911C-8CDCC27C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A16-C55E-467E-95DE-59E2AA24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495-848D-4D26-B51E-EB24B462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B2C-6857-4575-9E01-9F4EFFBE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83C-BFB8-431B-88F7-B6DEBF4C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E26-61E1-443F-9023-6C2A3DBD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163-3E12-4ADB-BD1A-F1CD9987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E4D-E882-4DA2-AA6E-0D0422CD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EEB-198D-4F5C-938D-1FEE9451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3A4-A33D-49F9-828E-1F4FA85C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C37-01B1-44CD-B07A-0D5FC5AF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A9A-8098-402B-AB46-80E46C69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C8E7-4D06-4C46-BEAD-4D6737027C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underground.com/MAR/nem.html?map=wave&amp;MR=1" TargetMode="External"/><Relationship Id="rId2" Type="http://schemas.openxmlformats.org/officeDocument/2006/relationships/hyperlink" Target="http://www.swellinfo.com/surf-forecast/atlantic-city-new-jersey.html" TargetMode="External"/><Relationship Id="rId3" Type="http://schemas.openxmlformats.org/officeDocument/2006/relationships/hyperlink" Target="http://climate.rutgers.edu/stateclim/?section=uscp&amp;target=NJCoverview" TargetMode="External"/><Relationship Id="rId4" Type="http://schemas.openxmlformats.org/officeDocument/2006/relationships/hyperlink" Target="http://www.currentresults.com/Oceans/Temperature/new-jersey-average-water-temperature.php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rfing Atlantic City New Jerse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 Carolina Ave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York Ave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othy Gir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ew York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15328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ew York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York Ave. picks up a variety of swell directions but due to the pier, this spot handles a northern swell better than South Carolina A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nd gathers just beyond the pier, giving it a shallow take off poi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ft-breaking waves wrap perfectly around the pier providing one of the longest rides the city has to off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ew York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Y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York Ave has been referred to as “Go-karts” because of the screeching go-karts on the pier over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“Go-Karts” whoever takes off closest to the pier has priority of the wa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often crowded spot can create an aggressive atmosphere as several surfers jockey for the one spot off the end of the pier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y take offs too close to the pier have lead to many broken boards and lifeguard rescu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uth Carolina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uth Carolina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uth Carolina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6963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uth Carolina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swell is out of the south, go to South.” says the wise, old longboa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pot picks up all swells and can handle a southerly swell nicely. The left-breaking wave off  the wooden groin is widely considered the best wave in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lso an underrated and very hollow right that barrels off of a rock jet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igh-performance waves at South Carolina  attract the best surfers in the area. The wave is suitable for aerials and monster barre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uth Carolina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youtu.be/8sEdQopHsJ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tlantic C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imal lif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t dolphin sightings have been known to spook a surfer into believing that they may be surrounded by shar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sher sharks have washed up on the b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lly fish can range in size from peas to basketballs. Tropical jellies have been known to make the trip on warm tropical currents flowing nor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veling to Atlantic C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nsistent time for swell in the Atlantic would be the fall and winter due to the stor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ff season for the casinos in Atlantic City runs from September through Apri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is time you can acquire discounted rooms for as little as $6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king is most safely done in the parking garages. Parking on the street is not advis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tlantic Cit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bination of hurricane season, and consistent cold winter nor’easters makes traveling to Atlantic City in the fall and winter months worth wh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can get discounted warm rooms at casinos during these months to make the 37 degree ocean water bearable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urces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http://www.wunderground.com/MAR/nem.html?map=wave&amp;MR=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  <a:hlinkClick r:id="rId2"/>
              </a:rPr>
              <a:t>http://www.swellinfo.com/surf-forecast/atlantic-city-new-jersey.htm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  <a:hlinkClick r:id="rId3"/>
              </a:rPr>
              <a:t>http://climate.rutgers.edu/stateclim/?section=uscp&amp;target=NJCoverview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  <a:hlinkClick r:id="rId4"/>
              </a:rPr>
              <a:t>http://www.currentresults.com/Oceans/Temperature/new-jersey-average-water-temperature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nodc.noaa.gov/dsdt/cwtg/index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stormsolutionsusa.com/Brochures/Noreaster%20Handout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thesurfersview.com/index.php?option=com_content&amp;view=article&amp;id=51&amp;Itemid=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magicseaweed.com/photoLab/browsePhotos.php?order=&amp;tag=&amp;regionId=&amp;region=&amp;spotId=390&amp;spot=&amp;userId=&amp;userName=&amp;user=&amp;countryId=&amp;country=&amp;date=&amp;dateLimit=&amp;start=120&amp;pod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urricane Seas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rricane season runs six months from June 1st through November 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spike in wave activity in Atlantic City during the oceans warmest months August, and Septemb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nds from a hurricane can be over 170 mph causing tremendous ocean swel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or’ Easter Seas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or’easter is a strong low pressure system. Nor’easter season lasts seven months, from October to Apri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or'easter is similar to a hurricane, except a nor’easter is generally double or triple the size of a hurrica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rricanes rarely hit the north east coast, but you can not have a winter with out 20-40 nor’easters, with at least two being sev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’easters linger, they can stick around for several tidal cycles all while churning up the ocea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urrent Swell Dire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urrent Wave Heigh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24080" y="5410080"/>
            <a:ext cx="276228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cean and Air Temperatur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– March average water temperature is 38 degrees. With an average high temp of 45 degrees and an average low of 32 degr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– June average water temperature of 53 degrees. With an average high temp 66 degrees and an average low of 55 degr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cean and Air Temperat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 – September the average ocean temperature is 71 degrees. The average high temperature is 78 degrees and the average low is 68 degr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 – December the average ocean temperature is 52 degrees. The average high temperature is 55 degrees with an average low of 43 degrees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ew York A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5:13:43Z</dcterms:created>
  <dc:creator>Timmy</dc:creator>
  <dc:description/>
  <dc:language>en-US</dc:language>
  <cp:lastModifiedBy>Timmy</cp:lastModifiedBy>
  <dcterms:modified xsi:type="dcterms:W3CDTF">2011-11-01T21:04:11Z</dcterms:modified>
  <cp:revision>16</cp:revision>
  <dc:subject/>
  <dc:title>Surfing Atlantic City New Jersey</dc:title>
</cp:coreProperties>
</file>